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BD01-36CA-42D8-B537-E5E5529B7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ctivity can lead into a discussion about Expected Progeny Differences (EPDs). EPDs use very complex theoretical probabilities to predict the outcome of offspring based on genetic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AEDF-B8BB-480F-B212-B6E097177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1E0D-3205-4311-A55E-6FB6FA6D7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3165-83A1-48FC-9BD9-7999A14E49B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26824-BA42-45B4-B8E2-DFD532ED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94855-47DF-4647-AE34-E2583848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CF0C8-E88A-45BD-9882-A976DA2C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EFCC5-DC1C-40EC-BFD5-A0CF57E6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91B93-83B8-4BE8-A4B1-4B7D26FE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CCE42-26F1-416B-8F7A-EFA598FD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E9FD-E390-471E-B100-9F37E1AA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7FDF2-534E-4304-A50C-D765C674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0C146-6E76-459A-996F-F339533B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B6320-C95B-42E5-98B8-9892171C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B57A-6613-4474-8F21-99956A0AC6D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BA409-DD5F-4F27-90B1-F66E8D43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FDE02-B35B-4FC7-A957-A4D94AC2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6BC33-BAF1-4564-B15C-1A18A9A7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C4C6C-4DA0-47D2-9FED-A0ED2A4E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2AF5D-B727-496C-9F09-7FBC944A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74A66-6D7D-4177-B1AE-13E7D278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7524B-6DDD-4BE4-A23E-24353C35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3C41C-29C6-4D91-87E2-F2B83AE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2182E-83A8-482C-9340-D04BB11F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282CB-0DEA-4A1E-A497-8256BE91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415B-4278-484B-9A61-46D725BC407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1CC15-EEC2-4B9B-BC3D-71CECFAB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2AC62-5D18-41FB-9BB8-7AC5A3FC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3F5BA-3130-43D7-A4DC-8E8BC36A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CB42A-4DF0-4265-948F-924C83C0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AE3B3-CDD1-459C-B4E1-35A2D7F2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DE528-828E-4814-8AB2-C23F8B2F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5E4C1-183E-499A-AC21-56FAF9D1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D4796-9C95-47B1-B7C0-7DD4E6C2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36295-2370-4B54-A5C8-39ECCF9C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B58E1-34EA-4E83-9D2A-C52C420F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BCC-C87A-48C4-863E-FA525F243F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BE7BF-33DD-4D15-8081-108ECF05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96E37-F4E5-49FC-960B-4431BD55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3BBF1-FA15-4947-A1EB-EEB53A1C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8C788-AD12-4B9D-A225-069DA2DD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414B0-FE29-42FB-A2C5-EEBD5344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19866-ADE4-4DF5-8217-8AAD8504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04403-D026-4F86-A849-85FA012D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FF8F5-B9D1-41B1-8B3F-520982DD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BBC09-FEA7-4496-8028-CC9AB52B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8E12F-F811-49DB-AAFE-64932B26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6FF-9D48-453D-98C0-CA7F1757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68E50-BB64-4BDB-8BD7-CD2A36D5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7452C-7D8B-42F8-A0F2-D5A2CDB6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88315-2DAF-4ACB-B171-8255D325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54E6C-7285-4D60-A4F2-47D1225A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35C66-2B95-4CB0-B792-D2B6777F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9CB-4B59-4BB7-9A67-2F4D9140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2A3-F212-41E0-BBAA-80333E88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868-6172-4D34-874F-61364E83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6EC-719B-441B-8B44-EE9E92CA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D72-206E-430E-9EEF-A28443A9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A660-8FF5-4C33-A8D8-83B227B6C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597-A866-4BF6-8C65-62BED6CB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15B-D119-425A-B6BB-F7C00375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174-6BA9-450C-9F62-6EF2FF4A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EF9-83C8-4632-AE2E-EEED770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A3F-01CF-4223-99A6-95C3BC7EF8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92F9-4CC8-4B24-A616-BB96B060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291B-0123-4DCA-B65E-22DAD916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151B-407E-409A-A8BF-A064DAD2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3D91-2BEA-4B77-B8CB-0050B481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4100-F2AE-4F14-AF00-FD003346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4F94-AE33-457D-BFBD-29FE730492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7147-E58D-43A6-B0DC-7481A01A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37A3-51F3-4145-8075-E1C3E589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9FBB-D6B9-41F4-825B-6CFCAB72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169A-ECF2-467F-AA43-AC1A30DF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70C4-49D2-483C-A8F0-D6B6D872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3E92-3B78-4378-8D8F-995E02DA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467A-37E9-4131-BA09-1C755C03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517E-2B44-477E-9903-0F047C5D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64BA3-6E93-4171-8A1B-7705E0D5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974CD-F71E-4B81-AC9B-D2FC787D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7A12-74E8-4FCC-85BA-8337FD8BB3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4492-21BB-4CF7-89E3-70160509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750F-81E5-4AE9-8CCA-DACE9CF2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5593-0E9A-4A52-B1B2-22FBE62E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835B-695B-47FC-A261-B5F7FE1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AEA1-9D53-4D03-8048-F751725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5B32-EA50-407E-A504-326C881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C858-4220-450A-875A-CF4E328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6D91-9C87-428C-B540-4144F4D6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5244-5EB1-42DB-B68C-48CCB19E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81465-1FBA-47DF-AB64-B2EE901A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A121-E642-45D1-82C6-632105D742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2DF12-D557-4D26-AAC1-6A1E1427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0EEF9-F6DE-4757-961B-555B60F5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3BE9-95FA-41E2-A61C-22D2BF80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FC6AA-3637-45FD-B38F-33965E40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3C715-0682-4214-BBEF-3CDB63FA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34B1D-7E4A-4BD0-B1B6-893DC77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6613-7B8F-4DE8-AA75-C44AD94B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69CF-D229-4E46-BD0B-28FC4CF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C965-A491-4D30-AE40-DA01C981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82F4-A2BC-4741-9F00-8994D516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2F31-7F16-408C-B8B5-265294EB16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3D299-ECA0-4892-8FBD-BB0337C3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B4405-D90F-4032-84F4-83636BF9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CDAB7-B384-4F0F-9660-4C8A4A90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41F9E-33B2-457E-9B2F-0CB77F94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5BA30-DCA4-4ECD-A574-C0B158B1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7B4DA-DC93-46EA-B2C1-DEEB6D96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C88A-CAF1-4782-A422-022EB33D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BE3ED-A269-4EDD-A055-375805EE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6C8C-6C40-4E52-8BD3-AF289198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F8EA5-425E-42A5-98B5-8E46F0E9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FD62-B5D4-4BD8-B42B-876B928A93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039F9-4CC1-4AB7-B11F-28641254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D4D99-C787-4817-9446-09585926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74DA4-D673-473B-8793-1959CDA9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F0C7-66BB-4770-9AF1-BC77F2D1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43501-5411-4946-8454-C8A6E08B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7A5B5-B90B-4C3D-8CFE-C55773FD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52150-8812-4D1D-B0FB-668899C9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511BF-863D-4D54-9450-E53E7633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BCD4D-F2EA-4328-A803-435CBC3D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724BE-F12A-46C9-B997-20AD2FA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A4E7-C600-4912-9B29-3224149566B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18BEC-F007-4CDF-A101-C8714F60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2D5C-5AD8-46C6-98B3-15D2956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98BB7-6EA0-454D-B4E6-4ED493AE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4BEC9-76F1-45F1-B0B1-02293C52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49383-F1AB-4FF8-AB2D-264D4073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9617D-2236-435C-87D0-2644171E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CB24F-7D1C-4EA4-80B7-1B71F8D5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2F180-EF80-4366-BD9B-DEE633CA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E1A75-889B-4CD2-9FD3-60B81743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E2788-F0F7-42C9-B37E-C1DB2E29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F45D-03F3-419F-9AF2-4492BD733C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287B5-553B-47FE-B1D1-A9A34B42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DBB1F-E5D8-4EB4-82C5-E4AE7869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9B902-49C0-4768-A7E4-90593A95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CBAC-69B9-4B65-B20A-4AC13942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B7165-7C8C-43C8-8CB4-051AC1E3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1918D-B88B-42F2-856D-96EE7895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00EE8-6755-4F34-A45E-949C6D42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96611-691C-48D5-9AC2-8EF12873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2E62A-96DA-448D-8065-D9556322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AF10F-52F9-4653-9632-38966367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3032-176C-454B-856C-8446C32E122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F4AF-8480-4174-A57C-31E850AE7B6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2C65-A9BC-4153-AE10-CEFC2716063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454F-C70E-46C5-955A-67A31A3DE68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CEC2-CD5B-4DFF-A277-2F4C99C806A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0BE9-9B56-4E28-8DEA-4620793EF99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D96B-EDF1-4775-8C51-4C65197A641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E171-74F0-48BA-8AF7-D0679617471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1795-5E8E-4D02-894F-E295167D4C5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56A8-0C0D-4385-862A-D3B869A6F00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0827-5C40-4EBD-A78C-48A4C23FB8B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BB85-4A75-442D-AB41-F05C5F3E367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11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refore, the theoretical probability is 2/8, which can be reduced to 1/4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ere are different ways to say this: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25% (percentage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0.25 (decimal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1:4 (ratio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you have a herd of 400 beef cows. Last winter you used the following bull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4 sons of MoneyMak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4 sons of CashCow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sons of Awesom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sons of BigBo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the probability that a calf this fall will be sired by a son of CashCow. Express your answer as a ratio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4/12 reduced to 1/3. As a ratio, the answer is 1:3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you have a herd of 100 beef cows. Last summer you used the following bull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sons of MoneyMak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 son of CashCow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 son of Awesom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the probability that a calf this spring will be sired by a son of MoneyMaker. Express your answer as a fraction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2/4 reduced to 1/2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you have a flock of 500 ewes. Last fall you used the following ram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8 sons of #545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4 sons of #2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4 sons of #778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4 sons of #40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the probability that a lamb this spring will be sired by a son of #402. Express your answer as a percentag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4/20 reduced to 1/5. As a percentage, the answer is 20%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Advanced Animal Science students use theoretical probabilities to predict simple genetic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dvanced Animal Science—AN 4.4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genetic outcomes. (Analyzing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S.2.2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predict outcomes of simple events using given theoretical probabilities. (Comprehension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ere experimental probability relies on using actual data from an experiment, theoretical probability is determined by noting all the possible outcomes theoretically and determining the likelihood of the given outcom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formula for theoretical probability of an event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(event) = number of favorable outcomes/number of total outcom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: A bag contains 10 red marbles, 8 blue marbles, and 2 yellow marbles. Find the theoretical probability of getting a blue marbl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olution: There are 8 blue marbles. Therefore, the number of favorable outcomes = 8. There are a total of 20 marbles. Therefore, the number of total outcomes = 20. 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 = 8/20 which can be expressed as a fraction 2/5, a ratio 2:5, a percentage 40%, or a decimal 0.4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you have a herd of 200 beef cows. This summer you are using the following bull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3 sons of Almight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sons of PowerHo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sons of BeefMak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 son of TBon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the probability that a calf next spring will be sired by a son of PowerHous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eview the formula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(event) = number of favorable outcomes/number of total outcom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nd the total number of outcome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8 in this example (3+2+2+1)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nd the total number of favorable outcomes (son of PowerHouse)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in this exampl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8-05T18:09:53Z</dcterms:modified>
  <cp:revision>21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74733548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 - 2 of 2</vt:lpwstr>
  </property>
</Properties>
</file>